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9CC-0076-46FD-B67F-7BAE6B48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68F-A490-43D8-B2D6-933EB22F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074-8381-447A-B0B2-2C55A03B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141-BAFD-4A59-986F-3560C7EC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A7A1-1BD2-4D84-ADB8-BEFA4DF3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AF7-256B-4690-8674-CB1E5A62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FDA6-0B1D-466B-A6E7-B9410D1A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DE94-DB96-4F91-8045-26A56F02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CE3C-F8E6-420B-8AD0-D1625890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B7F-02F4-40E9-8042-AF7FC5F5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59E8-BB00-471F-B0F2-42D2E6D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673-4862-44CB-90E9-9AE63AA2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DD2D-63C2-442F-A426-F6705B9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1208-27F3-470C-B4D4-2F37D7C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BB56-D823-4055-BAD3-B1005F65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DE8A-34DB-4E7B-AFCF-5AFE433C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6D2C-D6E6-44EC-8AAE-6627781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218-82B1-459E-890D-659CC952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BFD-8AA5-4AC9-AF4B-B7A2B0E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DC0-3690-4A4E-9947-286070DF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86D-3691-4259-9D8B-03C97362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0D4-AAF6-483A-99FE-0A8B3AFE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1FA-DAAB-4BFA-A016-228B793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126-4C84-499A-B81B-50E86FB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FC63-42C6-42F0-A2FE-0EEFE29509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1D37-C485-48C7-8DAA-CA6F0CD6F0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erlin Sans FB Demi"/>
              </a:rPr>
              <a:t>LANGUAGE IN RUSSI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 Demi"/>
              </a:rPr>
              <a:t>By Liam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CYRILLIC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NGUAG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kn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he Cyrill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ose who do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ciate its impor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ussia’s culture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02360" y="0"/>
            <a:ext cx="394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0:02Z</dcterms:created>
  <dc:creator> </dc:creator>
  <dc:description/>
  <dc:language>en-US</dc:language>
  <cp:lastModifiedBy> </cp:lastModifiedBy>
  <dcterms:modified xsi:type="dcterms:W3CDTF">2010-12-15T14:11:26Z</dcterms:modified>
  <cp:revision>2</cp:revision>
  <dc:subject/>
  <dc:title>LANGUAGE IN RUSSIA</dc:title>
</cp:coreProperties>
</file>